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88B-ED6B-4833-88DD-5DB6FD0E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1E0-49B7-43D6-9DAB-9F20666E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AAEB-4C13-4625-B729-838D0E3D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DB5-F50B-42E4-948F-7F6372E7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472-1AD7-4E4B-B05A-A7259336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93D7-1B8B-4DBF-A6F7-C6804A97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482-C261-4A7B-AB6B-67204FEF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2F9-ECF3-416C-BBE3-F5B117A4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F25-0035-43C1-9B1A-46BF626B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137-887E-45F6-9ACA-45FAB52A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E8F-2B56-4062-BABE-1215BE67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8E3-8990-47B9-8CDA-7CB371E7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4A9B-838B-4C6C-AA2C-B9A6C8CF0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: Graphing linear inequalities in on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near inequalities in one variable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solution for an inequality in one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the inequality as a comparison of two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two functions on on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vertical line through each point of intersection of the two functions.  Use a dotted line for &lt; or &gt;.  Use a solid line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the x values that make the inequality a tru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solution in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et no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 | x&lt;10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ads as “ the set of all x, where x is less than 10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ion of the set before the | shows what set we are discussing (x) and the part after shows what numbers are part of the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the set for all numbers greater than 2 and less than 5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x | 2&lt;x&lt;5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&gt;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part is f(x) larger than g(x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 | x&gt;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903920" cy="491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4724280" y="1523520"/>
            <a:ext cx="2210040" cy="434340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2209680"/>
            <a:ext cx="441972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447920"/>
            <a:ext cx="0" cy="4495680"/>
          </a:xfrm>
          <a:prstGeom prst="line">
            <a:avLst/>
          </a:prstGeom>
          <a:ln w="507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62800" y="1143000"/>
            <a:ext cx="2209680" cy="5029200"/>
          </a:xfrm>
          <a:prstGeom prst="rect">
            <a:avLst/>
          </a:prstGeom>
          <a:solidFill>
            <a:srgbClr val="ffff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(x)= 2x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(x) = 5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 x | x ≤ -1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903920" cy="4919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638680" y="1676160"/>
            <a:ext cx="2057400" cy="419076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867280" y="1447920"/>
            <a:ext cx="914400" cy="457200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523880"/>
            <a:ext cx="0" cy="441972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1219320"/>
            <a:ext cx="2133360" cy="4952880"/>
          </a:xfrm>
          <a:prstGeom prst="rect">
            <a:avLst/>
          </a:prstGeom>
          <a:solidFill>
            <a:srgbClr val="ffff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2&gt; -2x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903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ote on wor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two functions and figure out which one should be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tw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ed as you did bef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wor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an A in class, I must get 9 points.  Each assignments is worth 2.5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ewest number of assignments I can complete and still get an 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13400" y="1295280"/>
            <a:ext cx="41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21:59:47Z</dcterms:created>
  <dc:creator>nuhs</dc:creator>
  <dc:description/>
  <dc:language>en-US</dc:language>
  <cp:lastModifiedBy>nuhs</cp:lastModifiedBy>
  <dcterms:modified xsi:type="dcterms:W3CDTF">2007-11-02T20:25:11Z</dcterms:modified>
  <cp:revision>17</cp:revision>
  <dc:subject/>
  <dc:title>Algebra 2A</dc:title>
</cp:coreProperties>
</file>